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59C3-3508-4567-9C54-4962BAEF0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7CEB-6871-4FE3-82D7-C923309BA0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290C-3CBD-4526-8856-865F386D3A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505-E99C-42C9-8D35-60B6D118BC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589-91EC-4D8E-884E-32DC9C54F7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C6A-3C86-4873-B921-52EA743F5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609-F792-41BC-8557-19C184A6C2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1013-44E5-4FD1-82E3-5A5959CE1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04F4-D97F-4CE2-885B-6E359A571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36AC-CA0A-43BD-9A1D-EA9AE411A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7A5-FFC1-45D7-B1BC-51E039D76C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80E1-382E-40AD-B0BB-0C1DE819C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D81-FCF9-4840-8700-52FDD692E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2ED7-B0D1-41FA-9392-7795A9946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C5B-4BF1-4984-96C2-9F1710E765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A48E-D2EB-41F4-95CF-F93F7D8CD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DCE-C9BF-47BD-89E6-44DDF74DF4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29D1-6C7E-4098-98FC-F0D0704FD6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7BBE-0199-4949-AC55-B2D46CEE8C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6530-79FD-4A90-84F0-24DE60899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479-2E69-4E19-A3A7-85FA515F74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DC49-9168-469B-A06B-D8A81D96FA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21F-B15A-41A7-801B-9363CA31A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1EB5-D6E4-480A-9B7A-CA321FF1C1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C0B6-5E3C-4B17-9E96-E83CCB8F8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AD60-7E39-4DBC-A3F0-C755A4A145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E54-2764-416E-B06C-6C9E128F9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9E4F-4531-4A8C-99AD-802C0E4F55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52B-0558-475A-9CDE-F146612D4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229-C9F5-4FCB-ADC1-D00CA6169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19EB-393E-4709-A52C-A68BE6B33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982-12AC-4DE6-892B-9909351443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D58-F064-4FFA-88B1-845F6499BF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2F64-D590-4E48-BE31-A42725D0A1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E71B-6805-4AA7-8704-9FA3A5E0ED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1AC-EEE4-44DF-9E5F-0BC1352DF7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B132-79C4-44D9-8DA6-602AB30B0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28A-5C8A-427D-ACEA-C073A7F0C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458-C7F7-47FD-A2DB-D7645841CB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5367-978A-4994-B7DD-3C3C4973D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83E4-42AA-4720-A538-9D42060BE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B50D-D3C7-4983-A49F-6CEFAB1A2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DE71-2573-4EB5-9AA3-B01DC24759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C732-D78B-4126-B578-6DC471A4F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B095-DF73-411B-91BB-391FE0418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676-202A-456D-896A-F53BB80F7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3E6B-FCC1-4A1D-993D-6894F212D0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3E2-9F43-442B-98DA-F756A53AE4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7CC6-3550-4B89-98EA-63D0CB1078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9CAC-2C38-43EC-8CAD-FF507B8DB0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947-ABCC-4EC4-A3B2-43D74C9B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9DD-B70D-4F67-A18F-A4B854E9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FEC1-A954-4146-B7C8-157E596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098-6EC7-4132-9636-D6A6367F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A963-7842-4B8C-BFFC-7C0734F1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5D41-4D52-47A4-A006-9B99273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F19-2485-4B3E-B12E-110D4333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1575-6A50-4F95-B843-73CF479B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C1B-9C61-4C02-97EB-1AB51D9B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BF2-0599-4B95-93A0-3079B867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DBD7-E369-4E6E-AB8D-F269A91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AA6-9B9C-4715-B365-50C3B4E1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E5DC-A899-44C7-9E01-0FFA3AB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221D-B454-444E-A3DA-C3A0161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3129-E271-4DC4-947F-C239B4A2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B58-F113-4FDF-9F4B-CA511750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9F9D-0535-4380-8370-C45E35DE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CBF-CDBE-4E5D-AC94-E9DE2CB5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9D4-A7E7-4DDE-8D21-B644A35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F6D-2259-4FBA-9090-398B26EC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C39-550A-4BF8-A975-760E1161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128-3AC1-4C97-ACF9-187F766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00F-2BD9-4E6B-B1B0-D250943D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EF50-30C3-4291-A5DF-D9E1B34B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45C-2D95-4D6D-ABFC-0E2361B3DD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a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006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0062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3b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b2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3D6B-7D4F-4B9B-8812-D76BE2FC02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io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2133720" y="4191120"/>
            <a:ext cx="3657600" cy="1218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133720" y="4191120"/>
            <a:ext cx="3657600" cy="152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3"/>
          <p:cNvSpPr/>
          <p:nvPr/>
        </p:nvSpPr>
        <p:spPr>
          <a:xfrm>
            <a:off x="5715000" y="1143000"/>
            <a:ext cx="68580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0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 flipH="1" flipV="1">
            <a:off x="3048120" y="4723920"/>
            <a:ext cx="27432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          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 N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91320" y="533412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 flipV="1">
            <a:off x="3048120" y="4723920"/>
            <a:ext cx="27432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352680" y="5257800"/>
            <a:ext cx="2438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 Narrow"/>
              </a:rPr>
              <a:t>YES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5791320" y="5638680"/>
            <a:ext cx="2895480" cy="228600"/>
          </a:xfrm>
          <a:prstGeom prst="rect">
            <a:avLst/>
          </a:prstGeom>
          <a:solidFill>
            <a:srgbClr val="83b2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352680" y="5257800"/>
            <a:ext cx="243864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soluble group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83b2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s 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 the insoluble grou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e combination of C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rms a </a:t>
            </a:r>
            <a:r>
              <a:rPr b="0" lang="en-US" sz="18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, the chart indicates it has </a:t>
            </a:r>
            <a:r>
              <a:rPr b="0" lang="en-US" sz="1800" spc="-1" strike="noStrike">
                <a:solidFill>
                  <a:srgbClr val="83b200"/>
                </a:solidFill>
                <a:latin typeface="Arial Narrow"/>
              </a:rPr>
              <a:t>Low Solu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8077320" y="5638680"/>
            <a:ext cx="60948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Ionic compounds (Salts) are soluble in water, but the degree of solubility is different for different salts.  Salts can be described in one of the following catego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Partly (or Sparingly) 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Narrow"/>
              </a:rPr>
              <a:t>Insolu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en-US" sz="3000" spc="-1" strike="noStrike">
                <a:solidFill>
                  <a:srgbClr val="83b200"/>
                </a:solidFill>
                <a:latin typeface="Arial Narrow"/>
              </a:rPr>
              <a:t>soluble salt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 can be defined in 2 wa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Soluble salts tend to dissolve in aqueous solution in almost unlimited amou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9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More than 1 g of the salt dissolves in 100 mL of solutio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or More than 0.1 mole of the salt will dissolve in 1 L of solu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Use a solubility chart to predict the solubility of the following compounds in water.  State whether they are soluble or insoluble in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143000" y="2743200"/>
          <a:ext cx="7467480" cy="2997360"/>
        </p:xfrm>
        <a:graphic>
          <a:graphicData uri="http://schemas.openxmlformats.org/drawingml/2006/table">
            <a:tbl>
              <a:tblPr/>
              <a:tblGrid>
                <a:gridCol w="1865160"/>
                <a:gridCol w="1868760"/>
                <a:gridCol w="1868400"/>
                <a:gridCol w="186516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e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(N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P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u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bC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a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g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r(OH)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olu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General Solubility Rules (Time saver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itrates (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cat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mmonium (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 Narrow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an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kali Metals (L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luble with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 an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 chemical reaction between two Ionic solutions, a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ma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a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s, one of the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the reaction is the precipitate, in other words, it is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insoluble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it is a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83b200"/>
                </a:solidFill>
                <a:latin typeface="Arial Narrow"/>
              </a:rPr>
              <a:t>soli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 can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edi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orms the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precipit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f we have a solubility chart han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n a solution of Potassium iodide [KI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] reacts with a solution of Lead (II) nitrate [Pb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 Narrow"/>
              </a:rPr>
              <a:t>2 (aq)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], a yellow precipitate form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reaction can be described in wor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tassium iodide solution reacts with Lead (II) nitrate solution to form Potassium nitrate with Lead (II) iod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ne of the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insoluble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(the yellow 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Soluble - ie (aq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irst Step:  Write out th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alanced Reaction Equ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(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2K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(?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+ 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step: Determine which </a:t>
            </a:r>
            <a:r>
              <a:rPr b="0" lang="en-US" sz="2800" spc="-1" strike="noStrike">
                <a:solidFill>
                  <a:srgbClr val="83b200"/>
                </a:solidFill>
                <a:latin typeface="Arial Narrow"/>
              </a:rPr>
              <a:t>product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is insolu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4267080"/>
          <a:ext cx="7696080" cy="1371600"/>
        </p:xfrm>
        <a:graphic>
          <a:graphicData uri="http://schemas.openxmlformats.org/drawingml/2006/table">
            <a:tbl>
              <a:tblPr/>
              <a:tblGrid>
                <a:gridCol w="2597040"/>
                <a:gridCol w="2346480"/>
                <a:gridCol w="2752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ame of produ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olu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otassium nit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KNO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Soluble - ie (aq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ad (II) iod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PbI</a:t>
                      </a:r>
                      <a:r>
                        <a:rPr b="0" lang="en-US" sz="2400" spc="-1" strike="noStrike" baseline="-25000">
                          <a:solidFill>
                            <a:srgbClr val="83b2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3b200"/>
                          </a:solidFill>
                          <a:latin typeface="Arial Narrow"/>
                        </a:rPr>
                        <a:t>Insoluble - ie 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en-US" sz="2600" spc="-1" strike="noStrike">
                <a:solidFill>
                  <a:srgbClr val="83b200"/>
                </a:solidFill>
                <a:latin typeface="Arial Narrow"/>
              </a:rPr>
              <a:t>partly soluble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salt can be defined in 2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rtly soluble salts tend to dissolve in aqueous solution but in limited amou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tween 1 g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0.1g of the salt dissolves in 100 mL of s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etween 0.1mo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0.01 mole of the salt will dissolve in 1 L of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83b2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otal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show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all of the ions presen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in the two solutions, and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which ones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When writing this equation, you must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balance the atoms and the charge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, you must also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ndicate which species are (aq) and which, if any forms the precipitate (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83b200"/>
                </a:solidFill>
                <a:latin typeface="Arial Narrow"/>
              </a:rPr>
              <a:t>1PbI</a:t>
            </a:r>
            <a:r>
              <a:rPr b="0" lang="en-US" sz="3200" spc="-1" strike="noStrike" baseline="-25000">
                <a:solidFill>
                  <a:srgbClr val="83b200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+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2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get rid of Spectator Io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– ions that do not take part in the reaction (ie.,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they appear the same on the reactant side as they do on the product sid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-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2K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+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+ 2NO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3200" spc="-1" strike="noStrike" baseline="30000">
                <a:solidFill>
                  <a:srgbClr val="004a48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004a4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004a48"/>
                </a:solidFill>
                <a:latin typeface="Arial Narrow"/>
              </a:rPr>
              <a:t> +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edicting the Precipitate that Forms in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demonstrates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only the ions that form the precipitat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.  To show the Net Ionic Equation, you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 rid of Spectator Ions –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ions tha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83b200"/>
                </a:solidFill>
                <a:latin typeface="Arial Narrow"/>
              </a:rPr>
              <a:t>do not take part in the reaction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(ie., they appear the same on the reactant side as they do on the product side.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mplified and rearrang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hy are Net Ionic Equations 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2KI 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+  1Pb(NO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3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)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2(aq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caff3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2KNO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3(?)</a:t>
            </a: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  +  1PbI</a:t>
            </a:r>
            <a:r>
              <a:rPr b="0" lang="en-US" sz="2400" spc="-1" strike="noStrike" baseline="-25000">
                <a:solidFill>
                  <a:srgbClr val="caff38"/>
                </a:solidFill>
                <a:latin typeface="Arial Narrow"/>
              </a:rPr>
              <a:t>2(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aff38"/>
                </a:solidFill>
                <a:latin typeface="Arial Narrow"/>
              </a:rPr>
              <a:t>Simplified and rearrang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1Pb</a:t>
            </a:r>
            <a:r>
              <a:rPr b="0" lang="en-US" sz="3200" spc="-1" strike="noStrike" baseline="30000">
                <a:solidFill>
                  <a:srgbClr val="caff38"/>
                </a:solidFill>
                <a:latin typeface="Arial Narrow"/>
              </a:rPr>
              <a:t>2+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+ 2I</a:t>
            </a:r>
            <a:r>
              <a:rPr b="0" lang="en-US" sz="3200" spc="-1" strike="noStrike" baseline="30000">
                <a:solidFill>
                  <a:srgbClr val="caff38"/>
                </a:solidFill>
                <a:latin typeface="Arial Narrow"/>
              </a:rPr>
              <a:t>1-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(aq)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caff38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caff38"/>
                </a:solidFill>
                <a:latin typeface="Arial Narrow"/>
              </a:rPr>
              <a:t> 1PbI</a:t>
            </a:r>
            <a:r>
              <a:rPr b="0" lang="en-US" sz="3200" spc="-1" strike="noStrike" baseline="-25000">
                <a:solidFill>
                  <a:srgbClr val="caff38"/>
                </a:solidFill>
                <a:latin typeface="Arial Narrow"/>
              </a:rPr>
              <a:t>2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t Ionic Equation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fore showed that lead ions react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odide ions to form lead (II) iodide. It also tells us that the source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lead ions doesn’t matter. The lead ions could be from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itrate or lead sulphate. Likewise for iodide, it’s ion could 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vided by sodium iodide instead. Changing the spectator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esn’t impact the reactions…..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ffffff"/>
                </a:solidFill>
                <a:latin typeface="Arial"/>
              </a:rPr>
              <a:t>Because They’re Just Spectators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Content Placeholder 3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30225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dicting Ionic Solubil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n </a:t>
            </a:r>
            <a:r>
              <a:rPr b="1" lang="en-US" sz="2600" spc="-1" strike="noStrike">
                <a:solidFill>
                  <a:srgbClr val="83b200"/>
                </a:solidFill>
                <a:latin typeface="Arial Narrow"/>
              </a:rPr>
              <a:t>insoluble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 salt can be defined in 2 way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litatively</a:t>
            </a: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soluble salts do not dissolve in aqueous solution in any am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83b2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 Narrow"/>
              </a:rPr>
              <a:t>Quantitativel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ss than 0.1g of the salt dissolves in 100 mL of solu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3b2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ess than 0.01 mole of the salt will dissolve in 1 L of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ummary - Big Id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 double displacement reactions form precipi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cipitates form in double displacement reactions between two ionic solu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cipitates are insoluble ionic compounds, and do not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net ionic equation demonstrates only the ions that re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6"/>
          <p:cNvSpPr/>
          <p:nvPr/>
        </p:nvSpPr>
        <p:spPr>
          <a:xfrm>
            <a:off x="6019920" y="1295280"/>
            <a:ext cx="3124080" cy="1828800"/>
          </a:xfrm>
          <a:prstGeom prst="wedgeRoundRectCallout">
            <a:avLst>
              <a:gd name="adj1" fmla="val -60212"/>
              <a:gd name="adj2" fmla="val 100953"/>
              <a:gd name="adj3" fmla="val 16667"/>
            </a:avLst>
          </a:prstGeom>
          <a:solidFill>
            <a:srgbClr val="83b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308640" y="1447920"/>
            <a:ext cx="275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9" descr="MC900439851[1]"/>
          <p:cNvPicPr/>
          <p:nvPr/>
        </p:nvPicPr>
        <p:blipFill>
          <a:blip r:embed="rId1"/>
          <a:stretch/>
        </p:blipFill>
        <p:spPr>
          <a:xfrm>
            <a:off x="3200400" y="2286000"/>
            <a:ext cx="2533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Determine the ions present in this compound:  -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36180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76200" indent="-36180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2.  Look up the anion on the Solubility chart. (in this case CO</a:t>
            </a:r>
            <a:r>
              <a:rPr b="0" lang="en-US" sz="19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ng Solubility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Solubility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83b2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ing the Solubility Chart, a guided exa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Example: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Is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 Narrow"/>
              </a:rPr>
              <a:t>Calcium carbonate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soluble or insolubl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83b2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Determine the ions present in this compound:  -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a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CO</a:t>
            </a:r>
            <a:r>
              <a:rPr b="0" lang="en-US" sz="1900" spc="-1" strike="noStrike" baseline="-25000">
                <a:solidFill>
                  <a:srgbClr val="83b200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83b200"/>
                </a:solidFill>
                <a:latin typeface="Arial Narrow"/>
              </a:rPr>
              <a:t>2-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3b200"/>
                </a:solidFill>
                <a:latin typeface="Arial Narrow"/>
              </a:rPr>
              <a:t>2.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 Look up the anion on the Solubility chart. (in this case CO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 Narrow"/>
              </a:rPr>
              <a:t>3</a:t>
            </a:r>
            <a:r>
              <a:rPr b="0" lang="en-US" sz="1900" spc="-1" strike="noStrike" baseline="30000">
                <a:solidFill>
                  <a:srgbClr val="ffffff"/>
                </a:solidFill>
                <a:latin typeface="Arial Narrow"/>
              </a:rPr>
              <a:t>2-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95320" indent="-438120">
              <a:lnSpc>
                <a:spcPct val="90000"/>
              </a:lnSpc>
              <a:spcBef>
                <a:spcPts val="476"/>
              </a:spcBef>
              <a:buClr>
                <a:srgbClr val="004a48"/>
              </a:buClr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Look for the cation (in this case Ca</a:t>
            </a:r>
            <a:r>
              <a:rPr b="0" lang="en-US" sz="19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900" spc="-1" strike="noStrike">
                <a:solidFill>
                  <a:srgbClr val="004a48"/>
                </a:solidFill>
                <a:latin typeface="Arial Narrow"/>
              </a:rPr>
              <a:t>) in the two lists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s a precipitat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    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the chart will indicate it is insoluble or has low solubi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90000"/>
              </a:lnSpc>
              <a:spcBef>
                <a:spcPts val="451"/>
              </a:spcBef>
              <a:buClr>
                <a:srgbClr val="004a4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if the combination of Ca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+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 and CO</a:t>
            </a:r>
            <a:r>
              <a:rPr b="0" lang="en-US" sz="1800" spc="-1" strike="noStrike" baseline="-25000">
                <a:solidFill>
                  <a:srgbClr val="004a48"/>
                </a:solidFill>
                <a:latin typeface="Arial Narrow"/>
              </a:rPr>
              <a:t>3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2-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doesn’t</a:t>
            </a:r>
            <a:r>
              <a:rPr b="0" lang="en-US" sz="1800" spc="-1" strike="noStrike" baseline="30000">
                <a:solidFill>
                  <a:srgbClr val="004a48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4a48"/>
                </a:solidFill>
                <a:latin typeface="Arial Narrow"/>
              </a:rPr>
              <a:t>form a precipitate, the chart will indicate it is solu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884400" cy="52927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952880" y="1523880"/>
            <a:ext cx="838440" cy="441972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029200" y="5562720"/>
            <a:ext cx="76212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743200" y="3657600"/>
            <a:ext cx="2286000" cy="190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4952880" y="1143000"/>
            <a:ext cx="76212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1:38:32Z</dcterms:created>
  <dc:creator>Paul Teetzel</dc:creator>
  <dc:description/>
  <dc:language>en-US</dc:language>
  <cp:lastModifiedBy>TCDSB</cp:lastModifiedBy>
  <dcterms:modified xsi:type="dcterms:W3CDTF">2013-11-28T01:15:50Z</dcterms:modified>
  <cp:revision>19</cp:revision>
  <dc:subject/>
  <dc:title>Predicting Ionic Solubility</dc:title>
</cp:coreProperties>
</file>